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E0EE3-5AEB-49B3-9B8B-F3E0B5766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D9298-A04A-4AA3-B809-D82251A01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97637-F01A-4CC2-A693-D356B5E23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22755-0BCE-4E05-971B-5448B9330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7FE42-0DB3-4548-954C-496110DB5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AAF95-6670-4817-AB35-A45AB9CBB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DE50C-A26A-40ED-9F25-ED826F499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77E72-0480-48FE-B4FC-3FCBDB851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A25E2-3099-4424-BC04-8D1D9C2FD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816AA-AC02-44E8-9FEF-B2E823C74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61267-3284-4B1E-A490-396D31D38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530C-E428-49CD-A217-A5FD19627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195D8-4239-4B20-A45E-B3A885D40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7672B-36B8-4657-AFF8-530DA2B3A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BEFF6-A411-4894-A136-606E2C32A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CA746-E588-4D19-8798-759F0D507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B6E48-0B9C-4762-A073-43C3D04AC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2CC7C-2741-4B73-97B0-E2CD8456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1CF56-E0C9-41C2-A9C7-2C5632900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E9B02-27F3-425F-89BB-A4000989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94276-0557-40A3-ADB9-D562B8405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7840C-CE40-4A9D-901A-C5FD64A1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7B12-5A99-4D7F-9E46-F789B68F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8A90-E504-4852-BA11-6466C432A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8CFE-E7E6-49BE-A71C-E9C2F425CD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206F-8905-4CA5-8AE1-386B5EA7B5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0" lang="en-US" sz="2000" spc="-1" strike="noStrike">
                <a:solidFill>
                  <a:srgbClr val="ffcc66"/>
                </a:solidFill>
                <a:latin typeface="Arial"/>
              </a:rPr>
              <a:t>DIAGNOSING THE ENVIRONMENT</a:t>
            </a:r>
            <a:endParaRPr b="0" lang="en-US" sz="2000" spc="-1" strike="noStrike">
              <a:solidFill>
                <a:srgbClr val="ffcc66"/>
              </a:solidFill>
              <a:latin typeface="Arial"/>
            </a:endParaRPr>
          </a:p>
        </p:txBody>
      </p:sp>
      <p:sp>
        <p:nvSpPr>
          <p:cNvPr id="89" name="PlaceHolder 2"/>
          <p:cNvSpPr>
            <a:spLocks noGrp="1"/>
          </p:cNvSpPr>
          <p:nvPr>
            <p:ph type="subTitle"/>
          </p:nvPr>
        </p:nvSpPr>
        <p:spPr>
          <a:xfrm>
            <a:off x="2133720" y="3505320"/>
            <a:ext cx="6400800" cy="1752480"/>
          </a:xfrm>
          <a:prstGeom prst="rect">
            <a:avLst/>
          </a:prstGeom>
          <a:noFill/>
          <a:ln w="0">
            <a:noFill/>
          </a:ln>
        </p:spPr>
        <p:txBody>
          <a:bodyPr lIns="92160" rIns="92160" tIns="46080" bIns="4608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PTER SEVEN</a:t>
            </a:r>
            <a:endParaRPr b="0" lang="en-US" sz="1600" spc="-1" strike="noStrike">
              <a:solidFill>
                <a:srgbClr val="ffffff"/>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RGANIZATION’S  STYLE &amp; EXPECTATION</a:t>
            </a:r>
            <a:endParaRPr b="0" lang="en-US" sz="2400" spc="-1" strike="noStrike">
              <a:solidFill>
                <a:srgbClr val="ffcc66"/>
              </a:solidFill>
              <a:latin typeface="Arial"/>
            </a:endParaRPr>
          </a:p>
        </p:txBody>
      </p:sp>
      <p:sp>
        <p:nvSpPr>
          <p:cNvPr id="107" name="PlaceHolder 2"/>
          <p:cNvSpPr>
            <a:spLocks noGrp="1"/>
          </p:cNvSpPr>
          <p:nvPr>
            <p:ph type="subTitle"/>
          </p:nvPr>
        </p:nvSpPr>
        <p:spPr>
          <a:xfrm>
            <a:off x="1981080" y="1981080"/>
            <a:ext cx="6400800" cy="4114800"/>
          </a:xfrm>
          <a:prstGeom prst="rect">
            <a:avLst/>
          </a:prstGeom>
          <a:noFill/>
          <a:ln w="0">
            <a:noFill/>
          </a:ln>
        </p:spPr>
        <p:txBody>
          <a:bodyPr lIns="92160" rIns="92160" tIns="46080" bIns="4608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yle and Expectation is determined by the history and traditions of the organization and the organization’s goals and objectives that reflect the style and expectations of the current top management.</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rganization develops certain modes of behavior.  The organization becomes institutionalized when it becomes infused with a system of values that reflect its history and the people who play a vital role in its formation and growth.</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rganizations are expressed in policies, operating procedures, controls, informal customs and mores over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RGANIZAITONAL  GOALS</a:t>
            </a:r>
            <a:endParaRPr b="0" lang="en-US" sz="2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ational goals consist of a combination of output and intervening variabl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put variables – short run goals that are easily measured (net profits, annual earnings, etc.).</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vening variables – long run goals that reflect the internal condition of an organization that can not be easily measured; such as, capacity for effective interaction, communication and decision mak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THER SITUATIONAL VARIABLES</a:t>
            </a:r>
            <a:endParaRPr b="0" lang="en-US" sz="2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ob Demand – </a:t>
            </a:r>
            <a:r>
              <a:rPr b="0" lang="en-US" sz="1600" spc="-1" strike="noStrike">
                <a:solidFill>
                  <a:srgbClr val="ffffff"/>
                </a:solidFill>
                <a:latin typeface="Times New Roman"/>
              </a:rPr>
              <a:t>a variable task structure or the degree of structure in the task that the group   </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is to perform.</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 Structured jobs require high task behavi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 Unstructured jobs do not need direction; favor relationship-oriented  </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ehavi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me – The amount allotted for decision making determines the leadership styl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 Short time demands require task-oriented behavior.</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 Long time provides opportunity for leader to select from a broader</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ange of learning style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GENERATIONS</a:t>
            </a:r>
            <a:br>
              <a:rPr sz="2400"/>
            </a:br>
            <a:r>
              <a:rPr b="0" lang="en-US" sz="1800" spc="-1" strike="noStrike">
                <a:solidFill>
                  <a:srgbClr val="ffcc66"/>
                </a:solidFill>
                <a:latin typeface="Arial"/>
              </a:rPr>
              <a:t>There are several with specific motivation needs</a:t>
            </a:r>
            <a:endParaRPr b="0" lang="en-US" sz="1800" spc="-1" strike="noStrike">
              <a:solidFill>
                <a:srgbClr val="ffcc66"/>
              </a:solidFill>
              <a:latin typeface="Arial"/>
            </a:endParaRPr>
          </a:p>
        </p:txBody>
      </p:sp>
      <p:graphicFrame>
        <p:nvGraphicFramePr>
          <p:cNvPr id="113" name=""/>
          <p:cNvGraphicFramePr/>
          <p:nvPr/>
        </p:nvGraphicFramePr>
        <p:xfrm>
          <a:off x="457200" y="1752480"/>
          <a:ext cx="8381880" cy="5027760"/>
        </p:xfrm>
        <a:graphic>
          <a:graphicData uri="http://schemas.openxmlformats.org/drawingml/2006/table">
            <a:tbl>
              <a:tblPr/>
              <a:tblGrid>
                <a:gridCol w="2000160"/>
                <a:gridCol w="2114640"/>
                <a:gridCol w="2209680"/>
                <a:gridCol w="2057400"/>
              </a:tblGrid>
              <a:tr h="5136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neration G (1922-43)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es 54 and older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Gray Generation”</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Characteristics</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ard workers, dedicated,</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spect others, like consistency, sacrificial, value obedience over individualism, believes in hierarchy and adjust to younger supervisor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Leadership Influence</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ave a command/control style with clear, simple directions.  Provide your expectations.  Train them in technology.  Provide mentoring.  Reward their contribution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neration B (1942-60)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es 35 to 53</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Baby Boomers/Yuppie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Characteristics</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alue job security due to mergers, downsizing, pension plan changes and elderly parents; pursue expansion and personal gratification, committed,  the star of the show, strive for health and cooperative.</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Leadership Influence</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e consensual not hierarchical.  Share your expectations.  Value, respect and give credit for their accomplishment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llenge them to excel.   Set a warm environment.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vide training needed.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neration X (1960-00)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es 23 to 34</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Xer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Characteristics</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alue job satisfaction, is self-led, self-reliant, take risks, wants to know vision of organization, technological, transient, has subsets Generation N</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ispanics – has language and cultural barriers).</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Leadership Influence</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velop a responsive team.  Challenge their thinking.  Give reassurance for employee’s work.  Incorporate technology &amp; innovation with hands off approach. Keep workers informed.  Provide traini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neration Y (1980-00)</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ges 12 to 22</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Yes Generation”</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Characteristics</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vice providers, era of Nintendo and digital technology, lack nuclear family, openly discuss adult issues, cares for environment, accept multiculturalism, achievement oriented and values conscious. </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Leadership Influence</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aluate performance demands. Allow time to be self-led.  Allow them to set goals &amp; achieve dreams.  Provide training and mentoring. Be flexible and adapt to their styl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Leading Teams</a:t>
            </a:r>
            <a:endParaRPr b="0" lang="en-US" sz="28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m members with different styles should have common goals and objectives and compensate each other in the areas that they have shortcoming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ations need open dialogue with certain amount of conflict, confrontation and differing points of view to encourage new ideas and patterns of behavior.</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ersity helps organizations win in the global market pla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ENVIRONMENTAL  VARIABLES</a:t>
            </a:r>
            <a:endParaRPr b="0" lang="en-US" sz="28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fic organization may have additional variables unique to themselves that must be evaluated before determining their effectivenes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leader’s physical statu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d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XTERNAL  ENVIRONMENT</a:t>
            </a:r>
            <a:br>
              <a:rPr sz="2800"/>
            </a:br>
            <a:br>
              <a:rPr sz="2800"/>
            </a:br>
            <a:r>
              <a:rPr b="0" lang="en-US" sz="2800" spc="-1" strike="noStrike">
                <a:solidFill>
                  <a:srgbClr val="ffcc66"/>
                </a:solidFill>
                <a:latin typeface="Arial"/>
              </a:rPr>
              <a:t>DOMESTIC  &amp;  GLOBAL</a:t>
            </a:r>
            <a:br>
              <a:rPr sz="2800"/>
            </a:br>
            <a:r>
              <a:rPr b="0" lang="en-US" sz="2000" spc="-1" strike="noStrike">
                <a:solidFill>
                  <a:srgbClr val="ffcc66"/>
                </a:solidFill>
                <a:latin typeface="Arial"/>
              </a:rPr>
              <a:t>3 Categories</a:t>
            </a:r>
            <a:endParaRPr b="0" lang="en-US" sz="2000" spc="-1" strike="noStrike">
              <a:solidFill>
                <a:srgbClr val="ffcc66"/>
              </a:solidFill>
              <a:latin typeface="Arial"/>
            </a:endParaRPr>
          </a:p>
        </p:txBody>
      </p:sp>
      <p:graphicFrame>
        <p:nvGraphicFramePr>
          <p:cNvPr id="119" name=""/>
          <p:cNvGraphicFramePr/>
          <p:nvPr/>
        </p:nvGraphicFramePr>
        <p:xfrm>
          <a:off x="685800" y="2362320"/>
          <a:ext cx="7772400" cy="3733560"/>
        </p:xfrm>
        <a:graphic>
          <a:graphicData uri="http://schemas.openxmlformats.org/drawingml/2006/table">
            <a:tbl>
              <a:tblPr/>
              <a:tblGrid>
                <a:gridCol w="2590920"/>
                <a:gridCol w="2590560"/>
                <a:gridCol w="2590920"/>
              </a:tblGrid>
              <a:tr h="373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Environment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ization has no influence over economic, social, political, technological and ecological factor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ustry Environmen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ization have more influence on industry factors such as buyers, availability of substitutes or complements and the intensity of competitive rival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ng Environmen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tasks or competitive environment comprises factors as competitors, creditors, customers, labor force and supplier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VELOPING  STRATEGIES</a:t>
            </a:r>
            <a:endParaRPr b="0" lang="en-US" sz="28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difficult to make a complete change in a person’s styl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o so is a slow and expensive proces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rs are encouraged to adopt a normative behavior styl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flexible.  It is unrealistic to expect one style to be successfully applied in every situation.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HANGES IN EXPECTATION</a:t>
            </a:r>
            <a:br>
              <a:rPr sz="2400"/>
            </a:br>
            <a:r>
              <a:rPr b="0" lang="en-US" sz="2400" spc="-1" strike="noStrike">
                <a:solidFill>
                  <a:srgbClr val="ffcc66"/>
                </a:solidFill>
                <a:latin typeface="Arial"/>
              </a:rPr>
              <a:t> vs. </a:t>
            </a:r>
            <a:br>
              <a:rPr sz="2400"/>
            </a:br>
            <a:r>
              <a:rPr b="0" lang="en-US" sz="2400" spc="-1" strike="noStrike">
                <a:solidFill>
                  <a:srgbClr val="ffcc66"/>
                </a:solidFill>
                <a:latin typeface="Arial"/>
              </a:rPr>
              <a:t>CHANGES IN STYLE</a:t>
            </a:r>
            <a:endParaRPr b="0" lang="en-US" sz="2400" spc="-1" strike="noStrike">
              <a:solidFill>
                <a:srgbClr val="ffcc66"/>
              </a:solidFill>
              <a:latin typeface="Arial"/>
            </a:endParaRPr>
          </a:p>
        </p:txBody>
      </p:sp>
      <p:sp>
        <p:nvSpPr>
          <p:cNvPr id="123" name="PlaceHolder 2"/>
          <p:cNvSpPr>
            <a:spLocks noGrp="1"/>
          </p:cNvSpPr>
          <p:nvPr>
            <p:ph type="subTitle"/>
          </p:nvPr>
        </p:nvSpPr>
        <p:spPr>
          <a:xfrm>
            <a:off x="1676520" y="3123720"/>
            <a:ext cx="6400800" cy="1752840"/>
          </a:xfrm>
          <a:prstGeom prst="rect">
            <a:avLst/>
          </a:prstGeom>
          <a:noFill/>
          <a:ln w="0">
            <a:noFill/>
          </a:ln>
        </p:spPr>
        <p:txBody>
          <a:bodyPr lIns="92160" rIns="92160" tIns="46080" bIns="4608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s in expectation are changes in knowledge and attitudes and can be implemented more rapidly than changes in style.  </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llowers can adjust their expectations when they understand their leader’s sty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NGING  SITUATIONAL  VARIABLES</a:t>
            </a:r>
            <a:br>
              <a:rPr sz="2800"/>
            </a:br>
            <a:br>
              <a:rPr sz="2800"/>
            </a:br>
            <a:r>
              <a:rPr b="0" lang="en-US" sz="2000" spc="-1" strike="noStrike">
                <a:solidFill>
                  <a:srgbClr val="ffcc66"/>
                </a:solidFill>
                <a:latin typeface="Arial"/>
              </a:rPr>
              <a:t>3 MAJOR SITUATIONAL VARIABLES</a:t>
            </a:r>
            <a:endParaRPr b="0" lang="en-US" sz="2000" spc="-1" strike="noStrike">
              <a:solidFill>
                <a:srgbClr val="ffcc66"/>
              </a:solidFill>
              <a:latin typeface="Arial"/>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eader-Member Relation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eader’s personal relations with members of their group.</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  Position Power</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power and authority that the position provides.</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I. Task Structure</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degree of structure (routine versus challenging)</a:t>
            </a:r>
            <a:endParaRPr b="0" lang="en-US" sz="1800" spc="-1" strike="noStrike">
              <a:solidFill>
                <a:srgbClr val="ffffff"/>
              </a:solidFill>
              <a:latin typeface="Times New Roman"/>
            </a:endParaRPr>
          </a:p>
        </p:txBody>
      </p:sp>
      <p:pic>
        <p:nvPicPr>
          <p:cNvPr id="126" name="" descr=""/>
          <p:cNvPicPr/>
          <p:nvPr/>
        </p:nvPicPr>
        <p:blipFill>
          <a:blip r:embed="rId1"/>
          <a:stretch/>
        </p:blipFill>
        <p:spPr>
          <a:xfrm>
            <a:off x="4648320" y="1990800"/>
            <a:ext cx="380988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Effective leaders use a behavioral style that is appropriate to the demands of the environment.</a:t>
            </a:r>
            <a:endParaRPr b="0" lang="en-US" sz="16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competencies of leadership ar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earn to diagnose the environmen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dapting</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I. Communica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DIAGNOSING  THE  ENVIRONMENT </a:t>
            </a:r>
            <a:endParaRPr b="0" lang="en-US" sz="2400" spc="-1" strike="noStrike">
              <a:solidFill>
                <a:srgbClr val="ffcc66"/>
              </a:solidFill>
              <a:latin typeface="Arial"/>
            </a:endParaRPr>
          </a:p>
        </p:txBody>
      </p:sp>
      <p:sp>
        <p:nvSpPr>
          <p:cNvPr id="12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rtant that people of high position, throughout an organization, have the prerequisites for carrying out organizational goals effectively.</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person successful in one position may not automatically be successful in another.</a:t>
            </a:r>
            <a:endParaRPr b="0" lang="en-US" sz="2000" spc="-1" strike="noStrike">
              <a:solidFill>
                <a:srgbClr val="ffffff"/>
              </a:solidFill>
              <a:latin typeface="Times New Roman"/>
            </a:endParaRPr>
          </a:p>
        </p:txBody>
      </p:sp>
      <p:pic>
        <p:nvPicPr>
          <p:cNvPr id="129" name="" descr=""/>
          <p:cNvPicPr/>
          <p:nvPr/>
        </p:nvPicPr>
        <p:blipFill>
          <a:blip r:embed="rId1"/>
          <a:stretch/>
        </p:blipFill>
        <p:spPr>
          <a:xfrm>
            <a:off x="685800" y="2808360"/>
            <a:ext cx="3809880" cy="246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9907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Peter  Principle</a:t>
            </a:r>
            <a:br>
              <a:rPr sz="2400"/>
            </a:br>
            <a:r>
              <a:rPr b="0" lang="en-US" sz="2400" spc="-1" strike="noStrike">
                <a:solidFill>
                  <a:srgbClr val="ffcc66"/>
                </a:solidFill>
                <a:latin typeface="Arial"/>
              </a:rPr>
              <a:t>by</a:t>
            </a:r>
            <a:br>
              <a:rPr sz="2400"/>
            </a:br>
            <a:r>
              <a:rPr b="0" lang="en-US" sz="2400" spc="-1" strike="noStrike">
                <a:solidFill>
                  <a:srgbClr val="ffcc66"/>
                </a:solidFill>
                <a:latin typeface="Arial"/>
              </a:rPr>
              <a:t>Lawrence J. Peter</a:t>
            </a:r>
            <a:br>
              <a:rPr sz="2400"/>
            </a:br>
            <a:br>
              <a:rPr sz="2400"/>
            </a:br>
            <a:r>
              <a:rPr b="0" i="1" lang="en-US" sz="2000" spc="-1" strike="noStrike">
                <a:solidFill>
                  <a:srgbClr val="ffcc66"/>
                </a:solidFill>
                <a:latin typeface="Arial"/>
              </a:rPr>
              <a:t>“In a hierarchy, every employee tends to rise to his level of competence.” </a:t>
            </a:r>
            <a:r>
              <a:rPr b="0" lang="en-US" sz="2400" spc="-1" strike="noStrike">
                <a:solidFill>
                  <a:srgbClr val="ffcc66"/>
                </a:solidFill>
                <a:latin typeface="Arial"/>
              </a:rPr>
              <a:t>                </a:t>
            </a:r>
            <a:endParaRPr b="0" lang="en-US" sz="2400" spc="-1" strike="noStrike">
              <a:solidFill>
                <a:srgbClr val="ffcc66"/>
              </a:solidFill>
              <a:latin typeface="Arial"/>
            </a:endParaRPr>
          </a:p>
        </p:txBody>
      </p:sp>
      <p:sp>
        <p:nvSpPr>
          <p:cNvPr id="131" name="PlaceHolder 2"/>
          <p:cNvSpPr>
            <a:spLocks noGrp="1"/>
          </p:cNvSpPr>
          <p:nvPr>
            <p:ph type="subTitle"/>
          </p:nvPr>
        </p:nvSpPr>
        <p:spPr>
          <a:xfrm>
            <a:off x="1600200" y="3047760"/>
            <a:ext cx="6400800" cy="243828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eter  Vaccine</a:t>
            </a:r>
            <a:endParaRPr b="0" lang="en-US" sz="24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in and develop employees before promoting them.</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efully select leaders whose personality and expectations are appropriate for the new jo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KEY  VARIABLE</a:t>
            </a:r>
            <a:endParaRPr b="0" lang="en-US" sz="3200" spc="-1" strike="noStrike">
              <a:solidFill>
                <a:srgbClr val="ffcc66"/>
              </a:solidFill>
              <a:latin typeface="Arial"/>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ssible to address all interacting variables in an organization; however, there is one key variable – the relationship between the leader and followe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he follower is not willing to follow, it doesn’t matter what the boss thinks, what the nature of the work is, how much time is involved or other situational variables are.</a:t>
            </a:r>
            <a:endParaRPr b="0" lang="en-US" sz="2000" spc="-1" strike="noStrike">
              <a:solidFill>
                <a:srgbClr val="ffffff"/>
              </a:solidFill>
              <a:latin typeface="Times New Roman"/>
            </a:endParaRPr>
          </a:p>
        </p:txBody>
      </p:sp>
      <p:pic>
        <p:nvPicPr>
          <p:cNvPr id="134" name="" descr=""/>
          <p:cNvPicPr/>
          <p:nvPr/>
        </p:nvPicPr>
        <p:blipFill>
          <a:blip r:embed="rId1"/>
          <a:stretch/>
        </p:blipFill>
        <p:spPr>
          <a:xfrm>
            <a:off x="4648320" y="2610000"/>
            <a:ext cx="380988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Environmental  Variables</a:t>
            </a:r>
            <a:endParaRPr b="0" lang="en-US" sz="2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YLE – </a:t>
            </a:r>
            <a:r>
              <a:rPr b="0" lang="en-US" sz="2000" spc="-1" strike="noStrike">
                <a:solidFill>
                  <a:srgbClr val="ffffff"/>
                </a:solidFill>
                <a:latin typeface="Times New Roman"/>
              </a:rPr>
              <a:t>the consistent patterns leaders use as they work with and through other people; habits of action that become predictable to those who work with a leader.</a:t>
            </a:r>
            <a:endParaRPr b="0" lang="en-US" sz="20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CTATION – </a:t>
            </a:r>
            <a:r>
              <a:rPr b="0" lang="en-US" sz="2000" spc="-1" strike="noStrike">
                <a:solidFill>
                  <a:srgbClr val="ffffff"/>
                </a:solidFill>
                <a:latin typeface="Times New Roman"/>
              </a:rPr>
              <a:t>the perceptions of appropriate behavior for one’s role or position; one’s perception of the roles of others within an organization.</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541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An organization’s effectiveness depends on how individuals perceive and accept the institution’s goals and objectives as their own.</a:t>
            </a:r>
            <a:br>
              <a:rPr sz="1800"/>
            </a:br>
            <a:br>
              <a:rPr sz="1800"/>
            </a:br>
            <a:br>
              <a:rPr sz="1800"/>
            </a:br>
            <a:r>
              <a:rPr b="0" lang="en-US" sz="1800" spc="-1" strike="noStrike">
                <a:solidFill>
                  <a:srgbClr val="ffcc66"/>
                </a:solidFill>
                <a:latin typeface="Arial"/>
              </a:rPr>
              <a:t>The leader is the pivotal point of which all the other environmental variables interact. </a:t>
            </a:r>
            <a:endParaRPr b="0" lang="en-US" sz="1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Interaction of Style and Expectation</a:t>
            </a:r>
            <a:endParaRPr b="0" lang="en-US" sz="2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tyle of the leader is one of the most important elements of leadership.</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 internal forces that influence ones leadership style i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Value system</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 Confidence in employee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 Personal inclination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 Feeling of security in uncertain situations</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 leader’s style is determined by how their followers perceive their behavior.  Followers behave according to how they perceive their leaders.  Effective leaders need to learn how they come across to other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OLLOWERS STYLE &amp; EXPECTATIONS</a:t>
            </a:r>
            <a:endParaRPr b="0" lang="en-US" sz="2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llowers are the crucial factor in any leadership event.</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y can accept or reject the leader.</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y determine whatever personal power the leader will have.</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leader’s effectiveness depends greatly on the style of the individual workers.</a:t>
            </a:r>
            <a:endParaRPr b="0" lang="en-US" sz="1600" spc="-1" strike="noStrike">
              <a:solidFill>
                <a:srgbClr val="ffffff"/>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annerbaun &amp; Schmidt believe leaders can permit followers greater freedom under the following conditions:</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high need for independence</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readiness to assume responsibility for decision making</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relatively high tolerance for ambiguity</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e interested in the problems of the organization, and feel its importance</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derstand and identify with the goals of the organization</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ve the necessary knowledge and experience to deal with a problem</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ct to share in decision making</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aders may not be able to change their followers style.  They may need to adapt (temporarily) to the followers behavior.</a:t>
            </a:r>
            <a:br>
              <a:rPr sz="2000"/>
            </a:br>
            <a:br>
              <a:rPr sz="2000"/>
            </a:br>
            <a:r>
              <a:rPr b="0" lang="en-US" sz="1600" spc="-1" strike="noStrike">
                <a:solidFill>
                  <a:srgbClr val="ffcc66"/>
                </a:solidFill>
                <a:latin typeface="Arial"/>
              </a:rPr>
              <a:t>Hyler Bracey suggest leaders “manage from the heart”, which can promote honesty in the leader/followers relationship, increase job satisfaction through personal empowerment and give the organization a competitive edge.</a:t>
            </a:r>
            <a:endParaRPr b="0" lang="en-US" sz="1600" spc="-1" strike="noStrike">
              <a:solidFill>
                <a:srgbClr val="ffcc66"/>
              </a:solidFill>
              <a:latin typeface="Arial"/>
            </a:endParaRPr>
          </a:p>
        </p:txBody>
      </p:sp>
      <p:sp>
        <p:nvSpPr>
          <p:cNvPr id="100" name="PlaceHolder 2"/>
          <p:cNvSpPr>
            <a:spLocks noGrp="1"/>
          </p:cNvSpPr>
          <p:nvPr>
            <p:ph/>
          </p:nvPr>
        </p:nvSpPr>
        <p:spPr>
          <a:xfrm>
            <a:off x="761760" y="2514600"/>
            <a:ext cx="4800600" cy="373392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 and understand 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n if you disagree with me, please don’t make me wro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knowledge the greatness within 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ember to look for my good intentions</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ll me the truth with understanding </a:t>
            </a:r>
            <a:endParaRPr b="0" lang="en-US" sz="1800" spc="-1" strike="noStrike">
              <a:solidFill>
                <a:srgbClr val="ffffff"/>
              </a:solidFill>
              <a:latin typeface="Times New Roman"/>
            </a:endParaRPr>
          </a:p>
        </p:txBody>
      </p:sp>
      <p:pic>
        <p:nvPicPr>
          <p:cNvPr id="101" name="" descr=""/>
          <p:cNvPicPr/>
          <p:nvPr/>
        </p:nvPicPr>
        <p:blipFill>
          <a:blip r:embed="rId1"/>
          <a:stretch/>
        </p:blipFill>
        <p:spPr>
          <a:xfrm>
            <a:off x="5638680" y="2395440"/>
            <a:ext cx="2819520" cy="23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UPERVISOR’S  STYLE  &amp;  EXPECTATIONS</a:t>
            </a:r>
            <a:endParaRPr b="0" lang="en-US" sz="2400" spc="-1" strike="noStrike">
              <a:solidFill>
                <a:srgbClr val="ffcc66"/>
              </a:solidFill>
              <a:latin typeface="Arial"/>
            </a:endParaRPr>
          </a:p>
        </p:txBody>
      </p:sp>
      <p:sp>
        <p:nvSpPr>
          <p:cNvPr id="103" name="PlaceHolder 2"/>
          <p:cNvSpPr>
            <a:spLocks noGrp="1"/>
          </p:cNvSpPr>
          <p:nvPr>
            <p:ph type="subTitle"/>
          </p:nvPr>
        </p:nvSpPr>
        <p:spPr>
          <a:xfrm>
            <a:off x="2057400" y="3123720"/>
            <a:ext cx="6400800" cy="1752840"/>
          </a:xfrm>
          <a:prstGeom prst="rect">
            <a:avLst/>
          </a:prstGeom>
          <a:noFill/>
          <a:ln w="0">
            <a:noFill/>
          </a:ln>
        </p:spPr>
        <p:txBody>
          <a:bodyPr lIns="92160" rIns="92160" tIns="46080" bIns="4608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ervisor – the leader’s leader</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rtant for managers to know the expectations of their superviso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SSOCIATES’ STYLE  &amp; EXPECTATION</a:t>
            </a:r>
            <a:endParaRPr b="0" lang="en-US" sz="2400" spc="-1" strike="noStrike">
              <a:solidFill>
                <a:srgbClr val="ffcc66"/>
              </a:solidFill>
              <a:latin typeface="Arial"/>
            </a:endParaRPr>
          </a:p>
        </p:txBody>
      </p:sp>
      <p:sp>
        <p:nvSpPr>
          <p:cNvPr id="105"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teachers’ associates are the other teachers or colleagu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yles and expectations of associates are important to leaders when they have frequent interactions with the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0T19:15:14Z</dcterms:created>
  <dc:creator>gmorris</dc:creator>
  <dc:description/>
  <dc:language>en-US</dc:language>
  <cp:lastModifiedBy>AEURY</cp:lastModifiedBy>
  <dcterms:modified xsi:type="dcterms:W3CDTF">2006-09-05T16:59:22Z</dcterms:modified>
  <cp:revision>20</cp:revision>
  <dc:subject/>
  <dc:title> DIAGNOSING THE ENVIRONMENT</dc:title>
</cp:coreProperties>
</file>